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28.png" ContentType="image/png"/>
  <Override PartName="/ppt/media/image5.jpeg" ContentType="image/jpeg"/>
  <Override PartName="/ppt/media/image35.png" ContentType="image/png"/>
  <Override PartName="/ppt/media/image13.png" ContentType="image/png"/>
  <Override PartName="/ppt/media/image8.jpeg" ContentType="image/jpeg"/>
  <Override PartName="/ppt/media/image38.png" ContentType="image/png"/>
  <Override PartName="/ppt/media/image9.png" ContentType="image/png"/>
  <Override PartName="/ppt/media/image10.png" ContentType="image/png"/>
  <Override PartName="/ppt/media/image30.jpeg" ContentType="image/jpeg"/>
  <Override PartName="/ppt/media/image1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93D4-9386-4D2F-8481-136825607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E775-B54C-4D91-A00A-D5208E1632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Calibri"/>
              </a:rPr>
              <a:t>Декоктум-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лек који се прави када се врелим укуваним соком прелије други какав л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1C4A-85B3-4E83-9E40-10712C4D71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2C5C-C29E-49FA-8852-01D5449AD0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Calibri"/>
              </a:rPr>
              <a:t>Његова жена је, такође умела да лечи, а имао је и два сина, од којих је један лечио интерне болести, а други хируршке, и неколико кћери, од којих је свака била специјализована у својој грани медицине (на пример, </a:t>
            </a:r>
            <a:r>
              <a:rPr b="0" i="1" lang="el-GR" sz="1200" spc="-1" strike="noStrike">
                <a:solidFill>
                  <a:srgbClr val="000000"/>
                </a:solidFill>
                <a:latin typeface="Calibri"/>
              </a:rPr>
              <a:t>Hygieia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</a:rPr>
              <a:t> заштитница хигијене, а</a:t>
            </a:r>
            <a:r>
              <a:rPr b="0" i="1" lang="sr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1200" spc="-1" strike="noStrike">
                <a:solidFill>
                  <a:srgbClr val="000000"/>
                </a:solidFill>
                <a:latin typeface="Calibri"/>
              </a:rPr>
              <a:t>Panakej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</a:rPr>
              <a:t>- терапиј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7268-393C-4015-A4CB-086533ED56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8A0-5E61-47A1-BA7F-5CE6A99C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A37-81BE-4E23-BAC0-AB975830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D162-6A14-4413-BFA3-285CFC7A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9FA-F097-48BC-8AB8-7E4C4B8B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D3A4-F3A8-4A16-91C2-6D26FF90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0E58-7FE1-4EAD-9BAA-DA108AB4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0717-A679-4255-A01B-E61D7384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43A6-6A79-423F-8DE1-8E6795AA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722E-6F14-4ACE-A17A-28B5B18D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BEF3-0A79-4379-A17E-4C5354E0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4D05-45C4-4843-A1CF-9174952F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DC3-23D7-4781-8075-390BB603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3AD6-1E45-4DD5-BC5D-99ADBF22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DC99-CB46-4F63-BA69-73D2CFB1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F871-A850-460E-A7D0-61E6D72D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BC34-94B8-48CC-A350-5738BFBC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561A-D6E5-43CD-8527-C389B4B4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E45A1-B72F-4BEF-82AD-58701C86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E23C1-B81A-4D93-B007-E7BE02C1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A9464-72C5-4EDA-9225-EF5E18A8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01E3-4685-4C27-BD84-C57B9D1A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17E96-8A83-40D1-A5DB-9B244D42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114-C5F3-4365-9C68-89B2FEC8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42B02-4A54-4CF0-B625-A7423F3F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7380F-12C6-42EF-9A21-4391415E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F7C90-31A3-43F8-9756-C61DFBB3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1A693-AB32-4B8D-9738-128614A6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0E3CC-CD96-444B-AEF7-782AE8F1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A091A-E5B3-483A-898B-92F732A9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621CB-A597-46A3-8F77-5993582E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CFAAC-FBD8-4904-8934-7BACD11E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C5A42-767C-430F-9A8C-EC99E874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0098A-DE80-4CCD-880A-B2E8B4BF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940-A720-4DA3-A8DB-D20FED23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573AD-0D76-4E77-92CF-86EEB10B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CB576-B011-44D9-BD60-95394EEB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DBA0E-2239-4735-AD73-423C9B81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ADBDE-68F1-4CAD-BA35-936EB926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B7AE6-F2C9-4787-968C-5754D8E4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6C982-8459-4DFC-B992-905A30BA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59C78-E8D4-45D4-B5DE-EA5A370B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62CFB-D0CE-4264-B223-F3FE9772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287A9-05AB-405C-9CA9-8ECB3C97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9E70C-ABF3-488E-A970-721176B3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7D0-D2CA-42E4-AE73-196D23E6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52E6B-DFEF-4186-9C0A-9222A93A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C1F49-9A08-4947-BDB2-0F5A095E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04BDA-4BD3-49A3-BCD1-2B6F7DAE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5F2E0-9F0D-4011-A5A4-2B8EC41F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36A7E-261E-497C-8B73-413B02C5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9DA04-33D9-4641-80BF-0FBD8EEC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6F55C-CF3B-470C-9A4E-CEE3B192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D02A5-2247-444A-B09A-8E3AD402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BF79E-C1A4-4938-90B2-5CB4386F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B0F05-039E-497C-B268-7D87E241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76D-B8AE-45E2-87F4-22C2C2F8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459C3-DBF4-40FE-83D1-F4E72CFC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931B7-97F0-4CB2-8D54-ACE5C861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50DB3-4179-42FE-B5E2-00423170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B0C49-9F5D-4188-9716-8EE43376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A5600-C92A-4EA1-B809-E9688FCA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539B1-6D07-47FD-A7AC-D80213F6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F14F9-C61C-4B0B-892A-EC1403FE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00BF3-BDA3-4E6C-B189-B379307A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B7A41-DA9B-4CE3-89B1-B1AB5139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523B1-761A-40D9-B57D-C9589791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1E9-7217-40D7-B80A-31F976D0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1FDD1-E28D-4012-A8B0-E69CDFBA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2D5A8-4A28-4C3A-ACAD-63FB2B2E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E16CB-B208-4684-B31D-D7235B21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821E8-5781-4B07-BEAB-8BFB01F7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66E81-CDF3-4BB8-BA5E-D1E12A77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6789A-2AED-42AD-AE8C-76392C2D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47D1B-A204-426D-9A5D-41A4676D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8F034-5460-4A5C-9A67-CF1A6757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4316D-4C3C-4A0D-9B4B-CC5CC5F2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7D8B9-EF3F-4425-824E-058E46DE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17B-848D-4FBA-B94A-0C975964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1B0DE-D0C8-4DCE-960F-25E9A3A9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7BBAC-F9BB-4EA0-9973-85076A50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3577B-856D-47B4-A89D-579EBE8C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A34A8-06E8-4A4C-9788-83B3DDBF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8E651-CE0C-4658-915D-3D70D909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D4D5E-6E07-41D6-BA4A-46E49204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938F6-03BB-496F-8A4C-00A28B2B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14FD5-9146-4213-9647-1CBD7C3C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DB8C5-A96B-4FB6-9F2D-21F92FA1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995D4-9B39-4D0F-8E56-070331AB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1D8-4301-49EF-B91C-1551F21E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8F950-2FA0-4508-B7A3-B7414A19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CB749-4130-431D-ADDB-58070A0E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37062-3357-48F4-A255-C18F10F6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2961D-4CFD-4A95-AF17-7EE327E5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8A280-6081-490E-B341-9D0002C4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F6B17-B76F-4B0C-AF6A-9285DEF9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EBA0A-12AC-40C0-9536-029BEC07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CFCB-C987-4884-8481-A53C3D40D8E5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6B4C-97F3-4A1D-84A5-EC22B7F19A87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CE2B-66BB-4FB4-BC5C-ED9CAD1EBACA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72C9-29F5-460B-9C74-76CC04A56F5A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6F31-C00C-4BC7-8203-A613FB734DED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A754-C563-4983-AFFA-69A901A55E7A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9A4D-59AC-40C9-83B3-95A6FA84E06F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544E-D989-4C99-9FF4-A5A8CDCC9CFC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sr.wikipedia.org/wiki/&#1040;&#1085;&#1090;&#1080;&#1082;&#1072;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847800" y="2206800"/>
            <a:ext cx="80708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228240" y="13712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Anaksimandar (oko 550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Pitagora (oko 530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о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себн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школу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raklit iz Efeza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Leukip iz Mileta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Demokrit iz Abdera (oko 400)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Empedoklo iz Agrigenta (oko 450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..  идеалан лекар не мора бити  свештено лице, па су се лекари почели оријентисати на  законе природе, на посматрање и искуство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лаз »од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mitos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к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logоsu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560520" y="219240"/>
            <a:ext cx="851688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1017720" y="73080"/>
            <a:ext cx="8437320" cy="9270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6"/>
          <p:cNvSpPr/>
          <p:nvPr/>
        </p:nvSpPr>
        <p:spPr>
          <a:xfrm>
            <a:off x="304920" y="74916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  <a:ea typeface="Calibri"/>
              </a:rPr>
              <a:t>Хипократ  (4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  <a:ea typeface="Calibri"/>
              </a:rPr>
              <a:t>0 п. н.е. 377 п. н.е.)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рво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Calibri"/>
              </a:rPr>
              <a:t> Ко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0" y="1371600"/>
            <a:ext cx="84582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к медиц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с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e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ш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лe Асклепијeвог храм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знавао  је тековине преображене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сточњачке медицине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 из ње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својио богато емпиријско наслеђе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учавао 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филозофска де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а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карско знањ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ицао је код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ога о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Живео је и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дио после филозофа јонске натуралистичке школе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познао је и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својио њихове текови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 те тековине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интетизовао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његовим утицајем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медицина се одваја од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лигије и маг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7" name="Picture 4" descr="Hippocrates bust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088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6600"/>
                </a:solidFill>
                <a:latin typeface="Calibri"/>
                <a:ea typeface="Calibri"/>
              </a:rPr>
              <a:t>Corpus Hippocraticum</a:t>
            </a:r>
            <a:r>
              <a:rPr b="1" lang="sr-CS" sz="2400" spc="-1" strike="noStrike">
                <a:solidFill>
                  <a:srgbClr val="ff6600"/>
                </a:solidFill>
                <a:latin typeface="Calibri"/>
                <a:ea typeface="Calibri"/>
              </a:rPr>
              <a:t> </a:t>
            </a:r>
            <a:r>
              <a:rPr b="1" lang="sr-Latn-CS" sz="2400" spc="-1" strike="noStrike">
                <a:solidFill>
                  <a:srgbClr val="ff6600"/>
                </a:solidFill>
                <a:latin typeface="Calibri"/>
                <a:ea typeface="Calibri"/>
              </a:rPr>
              <a:t>»Hipokratov zbornik«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“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О светој болест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 -епилепсиј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О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аздуху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 вод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 и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 тлу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 -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ко климатски и географски фактори ут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чу на организа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 О дијет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 О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вредама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глав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 Прогностик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 -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 акутне болести прогноз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 О дијети код акутних болест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 О епидемијам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2 књиг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 О старој медицин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 -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брана емпиријск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х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 студија медицин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Афоризм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О растењу зуб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530280" y="378000"/>
            <a:ext cx="5956200" cy="1000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First Greek edition of Hippocrates' complete works"/>
          <p:cNvPicPr/>
          <p:nvPr/>
        </p:nvPicPr>
        <p:blipFill>
          <a:blip r:embed="rId2"/>
          <a:stretch/>
        </p:blipFill>
        <p:spPr>
          <a:xfrm>
            <a:off x="4952880" y="4800600"/>
            <a:ext cx="3886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15192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Хипократова знања из анатомије и физиологије су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: »Слезина је по облику налик на стопало«. 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»Жлезде су сунђерастог састава, млитаве и масне« »Корен свих вена је у јетри а корен свих артерија у срцу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»Из јетре и срца распростире се свуда крв и дах, и кроз њих промиче топлота«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»Ваздух привлачи артерија трахеје, бронхија и плућа, потом продире у срце и артерија носи дах живота и изазива покрете у свим деловима тела«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»Варењем хране ствара се флуид, који иде преко жлезда и вена, да би хранио делове тела«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»Мозак је жлезда која ослобађа тело од сувишних течности, он је седиште влаге, прима влагу из целог тела и расподељује је по целом телу«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865080" y="30240"/>
            <a:ext cx="84376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-360" y="11430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Lucida Sans Unicode"/>
              </a:rPr>
              <a:t>Његова знања и размишљања</a:t>
            </a: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ирода и жива бић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њој нису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астављен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од једног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елемента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већ од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4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и то од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воде, ваздуха, ватре и земљ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Елементе повезује пнеума- дах, душ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Човечије тело чине чврсти и течни делов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и чврсти садрже течне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чврсти делов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кости, мембране, зидови крвних судова и месо,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чн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4 сока, »хумора«, и то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рв, слуз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(питуит или флегма),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жута жуч и црна жуч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841320" y="23760"/>
            <a:ext cx="8461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-360" y="12949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Четирима соковима одговарају 4 њихова својст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уво, влажно, топло и хладн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д сокова рађа све животне појаве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дравље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чива на усклађеном односу 4 сока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а болест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ступа чим се тај однос поремети у погледу квалитета или количине тих соко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хуморална медицин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јер се базира на учењу о соковим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склађен однос између 4 телесна сока,  ј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»кразиј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«‘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80880" y="8380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Болест је поремећај тог стања, »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дискразија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«, и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природа организма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на то одговара »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кувањем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сокова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«, које се завршава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или избацивањем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шкодљивих излучина, или њиховим задржавањем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и таложењем у извесном делу тела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Напор тела за избацивање чини »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кризу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«, која 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наступа код сваке болести у одређене дане,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критични дани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«; код тифуса седмог, код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пнеумоније деветог дана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За време критичних дана пресуђена болест још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суди, а при срећном исходу, када наступи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избацивање излучина из тела, зној суди болести, и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долази до обилног знојења, мокрења и олакшања</a:t>
            </a:r>
            <a:r>
              <a:rPr b="0" lang="sr-CS" sz="26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865080" y="30240"/>
            <a:ext cx="84376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 постоји болест већ болестан човек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Хипократов клиницизам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– базира се  на израђеном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лану прегледа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тврђивања болести, предвиђања њеног тока и исхода, и лечења, што се све изводи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 болеснику у његовој постељи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»клине«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еглед почиње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купљањем података од болесник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»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anamnesis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; наставља се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егледом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да би се утврдило болесниково стање, »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status praesen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«, при чему се треба »ослањати на чињенице и мудро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суђивати«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: 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асуђивање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 помоћу очију, ушију, носа, шаке и другим начинима који су нам на располагању односно  гледајући, пипајући, њушећи и пробајући на укус«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-463680" y="195120"/>
            <a:ext cx="824256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 помињући нигде пулс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иако је био познат јонским природњацима-филозофима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дређује болесникову телесну топлоту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тављањем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вршине своје шаке на његове груди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руге начине прегледа описује овако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: »Прислањајући уво на груди може се чути код извесних болесника звук сличан звуку при кувању сирћета«. - »Треба наслонити уво уз бок грудног коша и затрести нагло болесниково раме, и ако у плеури има течности, чуће се клопотање«, а други пут може се чути »звук шкрипања нове коже«, 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Succussio hippocratic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«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225360" y="195120"/>
            <a:ext cx="824220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знати су његови описи бат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астих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стију, код хрон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их ср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их болесника (Digiti Hipocratici)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зглед лица који наговештава скору смрт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facies Hipocratici)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8242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1"/>
              </a:rPr>
              <a:t>Античк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Грч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ара Грч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ил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Хеленска цивилиза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чела да се уздиже током 8. века п. н. е. и периодом који је уследио након пропасти Микенске цивилизације, и која се развила на подручју континенталне Грчке, Мале Азије, Медитерана и обалама Црног мора све до 146. п. н. е. када је Грчка освојена од стране Римске републике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Хипократова терапија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истиче из његове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иолошке поставке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 је »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ирода лекар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«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vis medicatrix natura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«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ила самоисцељењ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Више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е  хигијенска и дијететск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го медикаментн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мски лекар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Асклепрјад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четири века касније, пребацио његовој терапији да »посматра смрт«, јер није довољно активн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иолошку основу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његове терапије најбоље приказују изреке: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Natura sanat, medicus curat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«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(»Природа исцељује, лекар лечи«)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»Primum non nocere«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(»Пре свега не нашкодити«) је упут да се претерано активном терапијом не нашкоди болесник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-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Хипократова терапија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рапијска средства су махом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лекови биљног порекла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у виду инфузума, декокту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ашкова, зрнаца, мелема, супозиториј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уштање крви код многих болести, »флеботомија«, средства за чишћење и повраћање, за умирење и мокрење, затим купање у топлој и хладној води, стављање купица и каутеризацију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Декоктум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 лек који се прави када се врелим куванин соком прелије други какав лек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0520" y="151920"/>
            <a:ext cx="84582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Lucida Sans Unicode"/>
              </a:rPr>
              <a:t>                       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Хипократова терапија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Хируршке операције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пућиване су »хирурзим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«, сходно његовој заклетви, и извођене су махом у обиму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але хирургије, на површини тел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: инцизије, каутеризације усијаним гвожђем, парацентезе торакса и абдомена, литотомије резом на перинеуму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 сам је намештао  преломе костију на »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Хипократовој клупи«, репоновао луксације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 »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Хипократовим лествицам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« и намештао завоје на ране,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међу њима и »Хипократову капу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«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                      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Дијететика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Важну улогу у чувању здравља и при лечењу болести, у складу с биолошким начелом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амоисцељења и јачања отпорне моћи организм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ака дијет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- фебрилним болесницима: кување млека, јечма, вина и меаа (»птизан«)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ака дијет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- садржала обилнију исхрану у мањим и честим оброцима, уз придржавање поменуте хигијенске формул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..само добар човек може бити добар лекар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Calibri"/>
              </a:rPr>
              <a:t>...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0" y="1219320"/>
            <a:ext cx="91440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менио став лека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ма лекарској професиј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кари су често  били п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мићив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и како би рекли д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е неко умр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ли би били ангажован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 припреме отрoв за нечијег непријатељ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Ако је владар желео да се реши неког свог противника, могао је да подмити  лекара да овај напише да је противник био болестан и тако умро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супрот-учио је студенте да сваког третирају на исти начин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1547640" y="255600"/>
            <a:ext cx="8444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  <a:ea typeface="Tahoma"/>
              </a:rPr>
              <a:t>"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Кунем се Аполоном л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екаром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Асклепијем, Хигијеом и Панакејом, свим боговима и божицама, зовући их за сведоке, да ћу по својим силама и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савести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држати ову заклетву и ове обвезе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Свога ћу учитеља 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по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штовати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као своје родитеље, даваћу му што му у животу буде потребно, његову ћу децу држати својом браћом, а буду ли хтели учити ову уметност, поучаваћу их без уговора и пл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т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уштаћу д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честву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код предавања и обуке и у свем осталом знању, моја деца и деца мојега учитељ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чићу и ђа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и се буду уговором обвезали и овом заклетвом заклели, али никога другог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оје прописе одредићу по својим моћима и знању на корист болесника и штитићу га од свега што би му могло шкодити или нанети неправду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икоме нећу, макар ме за то и молио, дати смртоносни отров, нити ћу му з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дати савет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Исто тако нећу жени дати средство з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рстање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плод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Чисто ћу и побожно живети и извршавати своју уметност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ћу опер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а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бубрежне каменце, него ћу то препустити другима, који се тиме баве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957240" y="268200"/>
            <a:ext cx="8497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60948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коју год кућу ступим радићу на корист болесника, клонећи се хотимичног оштећивања, а особито завођења жена и мушкараца, робова и слободних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Што при свом послу будем сазнао или ви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, па и иначе, у односу с људима, колико се не буде смело јавно знати, прећ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аћ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и задржаћу тајну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Будем ли одржао ову заклетву и не будем ли је прекршио, нека ми буде сретан живот и успешна уметност, нека стекнем славу и углед код људи до у далека времена; прекршим ли ову заклетву и закунем ли се криво, нека ме задеси противно"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627200" y="274680"/>
            <a:ext cx="84376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5" descr="5266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3000 година пре н. е. почела је да се развија медицинска култура под јаким утицајем Египта и Вавилониј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Даје најинтересантније податке из области историје медицине у старом век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начајна трансформациј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44b9e8"/>
                </a:solidFill>
                <a:latin typeface="Calibri"/>
                <a:ea typeface="Calibri"/>
              </a:rPr>
              <a:t>-емпиријско-магијск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sr-CS" sz="2800" spc="-1" strike="noStrike">
                <a:solidFill>
                  <a:srgbClr val="44b9e8"/>
                </a:solidFill>
                <a:latin typeface="Calibri"/>
                <a:ea typeface="Calibri"/>
              </a:rPr>
              <a:t>свештеничка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четак </a:t>
            </a:r>
            <a:r>
              <a:rPr b="0" lang="sr-CS" sz="2800" spc="-1" strike="noStrike">
                <a:solidFill>
                  <a:srgbClr val="44b9e8"/>
                </a:solidFill>
                <a:latin typeface="Calibri"/>
                <a:ea typeface="Calibri"/>
              </a:rPr>
              <a:t>научне медицин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-захваљујући утицају грчке филозофије природ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0492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i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форизми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«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подаци и из области зубне медицине (32 афоризма), половина се  односи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 млечне зуб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а други су посвећени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атологији и терапији обољења жлезда усне дупљ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дстављају прве тезе  о болестима  деце и зуб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хватио је важност зуба и познавао њихове болести и њихову повезаност са општим стањем људског организм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0520" y="11430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време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збијања првог зуб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ете може добити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нвулзиј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али да од тога неће подлећи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ст зуб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е праћен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шљем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што успорава тај процес и проузрокује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ршављењ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детет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ви зуби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е формирају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бог храњења зачетка у материци и дојења детет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сле његовог рођења. Променом хране и пића они испадају: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спадање почиње када дете напуни седам година од првог дојења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некад пре, што настаје услед лоше хр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е, али најчешће у седмој години...«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во, још једанпут, потврђује теорију о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рочанској вредности броја седам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ме је посвећен цео одељак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835200" y="60480"/>
            <a:ext cx="824220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052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књиз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De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carnibus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говори се о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формирању зуба: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»Први зуби испадају углавном око седме године старости, и они који израсту после њих старе заједно са човеком све док их некаква бoлест не разoри«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зноси теорију о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сном ницању умњак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д већине људи. Његова потреба да објасни све феномене људског живота подстиче га да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стражује разлог овог касног ницања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53352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свом делу »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De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mеdico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«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говори о инструментима за зубе (не описује их), сматра да је њихова употреба једноставна и да се њима може лако руковат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о доказ -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ловна клешта нађена у храму у Делфима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где се и данас чувају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2425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Даје  тачан опис фрактура и луксација максиле и мандибуле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Наговештава апарат за имобилизацију фрагмената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поломљене фрагменте повезује златном жицом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, коју скида тек онда када ови зарасту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Многи лекари су касније, по угледу на</a:t>
            </a:r>
            <a:r>
              <a:rPr b="0" i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Хипократа,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израђивали апарате за фрактуре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Његов начин санације код луксације максиле и мандибуле примењује се и данас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907920" y="146160"/>
            <a:ext cx="824256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04920" y="9907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случају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убобољ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ако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е зуб пропао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злабављен, мора се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екстрахирати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ко није а бол се ипак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сећа,  треба га исушити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утеризацијом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стоје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цепти  за олакшавање боли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д гингивитиса, стоматитиса, фистула, едема, скорбута и фетора из уста.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тврдио да неки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глоситиси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стају као последица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риозних или фрактурираних зуб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чак и без осећања бол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поручивао је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ирће за испирање уст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а исто тако касторију и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ибер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и су се код болести зуба показали као врло ефикасн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987480" y="115920"/>
            <a:ext cx="824220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04920" y="15998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поручивао је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екстракцију кариозних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пиороичних зуба, као и у случају периодонтитиса, а саветовао је и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паљивање ран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уби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брадирају и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пропадају из два разлог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поља их троши тврдоћа хране, а изнутра их нагриза дејство секреције у устим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ако су зуби иначе по природи слаб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иороичне зубе повезивао је са чврстим, здравим суседима помоћу кудељиног конца или златне жиц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987480" y="146160"/>
            <a:ext cx="8242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33520" y="6091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</a:t>
            </a:r>
            <a:r>
              <a:rPr b="1" lang="sr-CS" sz="3900" spc="-1" strike="noStrike">
                <a:solidFill>
                  <a:srgbClr val="000000"/>
                </a:solidFill>
                <a:latin typeface="Calibri"/>
                <a:ea typeface="Calibri"/>
              </a:rPr>
              <a:t>Хипократ значај</a:t>
            </a:r>
            <a:endParaRPr b="0" lang="en-US" sz="3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сновао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иолошко-патолошку медицину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(уместо магијске, верске и мистичне) ,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ворио клинички план рада с болесником у његовој постељи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 што је својом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хуморалном теоријом указао на материјалну, патолошку основу болест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Емпиријска медицина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 без научне подлоге, заснована на поменутој, здравој троножној основи, као клинички путоказ и метод рада, упућивала је вековима, па и данас,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каре на правилан пут и плодан рад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572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Платон, један од најзначајнијих  грчких мислилаца  крајем 5. и почетком 4. века старе ер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Аристотел,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Платонов ученик и »најученији Грк«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Erazistrat ( 310-250 п.н.е.)- анатом, патолог, физиолог- емпиријска школа-допушта ст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цање нових спознај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открио nervus opticus i acusticus, разликује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нзорне и моторне живце, описао разне вене 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артерије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дбацује Хипократову науку- важнији су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с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олидн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д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елови (живци , артерија и вене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болест – пос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л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едица обиља, виш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596880" y="324000"/>
            <a:ext cx="848052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04920" y="380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четно веровање -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огови доносе болест, али и да је леч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штитник свих наука и уметности био је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Аполон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а заштитник медицине његов син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Asklepije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(Eskulap)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чији је симбол - знак са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мијом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- и данас знак медицине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Picture 4" descr="Apollo. Parthenon frieze"/>
          <p:cNvPicPr/>
          <p:nvPr/>
        </p:nvPicPr>
        <p:blipFill>
          <a:blip r:embed="rId1"/>
          <a:stretch/>
        </p:blipFill>
        <p:spPr>
          <a:xfrm>
            <a:off x="6629400" y="3581280"/>
            <a:ext cx="2514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Први извори из којих сазнајемо о болестима и лековима код старих Грка јесу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Хомерови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епови</a:t>
            </a:r>
            <a:r>
              <a:rPr b="1" i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Илијада и Одисеја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(800. год. пре н. е.) где се говори о многим болестима и о терапији, нарочито о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разним повредама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, као и о начину њихове санациј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Емпиријска меди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цина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без примесе магиј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Б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  <a:ea typeface="Calibri"/>
              </a:rPr>
              <a:t>ројна медицинска опажања и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повред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4" descr=""/>
          <p:cNvPicPr/>
          <p:nvPr/>
        </p:nvPicPr>
        <p:blipFill>
          <a:blip r:embed="rId1"/>
          <a:stretch/>
        </p:blipFill>
        <p:spPr>
          <a:xfrm>
            <a:off x="689040" y="291960"/>
            <a:ext cx="84614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Медицина се развијала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при храмовима бога</a:t>
            </a:r>
            <a:r>
              <a:rPr b="1" i="1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Asklepija,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где су се лечењем бавили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свештеници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, од којих су настале 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породице асклепијада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, практичних лекар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Култ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Asklepija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био је раширен дуж обале Средоземног мора, а у Грчкој је било много светилишта, као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Epidaurus, Rodos, Melos, Samos, Kos i Knido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Epidaurus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је био најпознатије лечилиште старога ве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201600" y="281160"/>
            <a:ext cx="8491680" cy="87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libri"/>
                <a:ea typeface="Calibri"/>
              </a:rPr>
              <a:t>Лечење углавном, </a:t>
            </a:r>
            <a:r>
              <a:rPr b="1" lang="sr-CS" sz="2900" spc="-1" strike="noStrike">
                <a:solidFill>
                  <a:srgbClr val="000000"/>
                </a:solidFill>
                <a:latin typeface="Calibri"/>
                <a:ea typeface="Calibri"/>
              </a:rPr>
              <a:t>емпиријско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  <a:ea typeface="Calibri"/>
              </a:rPr>
              <a:t> и заснивало се на </a:t>
            </a:r>
            <a:r>
              <a:rPr b="1" lang="sr-CS" sz="2900" spc="-1" strike="noStrike">
                <a:solidFill>
                  <a:srgbClr val="000000"/>
                </a:solidFill>
                <a:latin typeface="Calibri"/>
                <a:ea typeface="Calibri"/>
              </a:rPr>
              <a:t>сугестивним ефектима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900" spc="-1" strike="noStrike">
                <a:solidFill>
                  <a:srgbClr val="000000"/>
                </a:solidFill>
                <a:latin typeface="Calibri"/>
                <a:ea typeface="Calibri"/>
              </a:rPr>
              <a:t>Прва фаза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  <a:ea typeface="Calibri"/>
              </a:rPr>
              <a:t> се састојала у доласку болесника из разних крајева земље и у њиховом </a:t>
            </a:r>
            <a:r>
              <a:rPr b="1" lang="sr-CS" sz="2900" spc="-1" strike="noStrike">
                <a:solidFill>
                  <a:srgbClr val="000000"/>
                </a:solidFill>
                <a:latin typeface="Calibri"/>
                <a:ea typeface="Calibri"/>
              </a:rPr>
              <a:t>окупљању испред храмова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  <a:ea typeface="Calibri"/>
              </a:rPr>
              <a:t>, где су и спавали.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libri"/>
                <a:ea typeface="Calibri"/>
              </a:rPr>
              <a:t>Свештеници су обилазили болеснике, слушали на шта се жале, давали им савете за лечење и тумачили снове.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225360" y="285840"/>
            <a:ext cx="846792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туали са кађењем, купањем, мирисним травама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рапиј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е заснована н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новима и визијам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ауторитете и њихову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б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езусловна вера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 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собност да исцељуј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олесници су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е молили и приносили жртв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ласком у сам храм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бављала се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церемонија уз присуство свештеника обучених у свечане одоре: очекивала се појава асклепијада и оздрављењ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олесници би  давали разне заветне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рове, обично начињене од сребра, бронзе, камена или дрвета, у облику оболелог органа који је требало да буде излечен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255600" y="334800"/>
            <a:ext cx="84376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380880" y="304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Јонска натуралистичка школ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0" y="1066680"/>
            <a:ext cx="9524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≫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лозофијом и разни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гранама науке биологијом, физиком,математиком, геометријом, астрономијом, - ве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 лекарством и политик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тац филозофије≪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 Tal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острва Mileta (окo 590), после многих путовања по Египту, размишљао је 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роди и о човечијем организм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, па је створи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ј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≫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зис≪ -≫прир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≪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родан чинилац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и изазива непрекидна кретања, промене  и преобража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 васиони и кој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чива на основном елементу природ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 вод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, из ког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еображавањ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постају и три дру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аздух, земља, ватр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8:51:44Z</dcterms:created>
  <dc:creator>Fran</dc:creator>
  <dc:description/>
  <dc:language>en-US</dc:language>
  <cp:lastModifiedBy>User</cp:lastModifiedBy>
  <dcterms:modified xsi:type="dcterms:W3CDTF">2021-02-01T10:26:38Z</dcterms:modified>
  <cp:revision>168</cp:revision>
  <dc:subject/>
  <dc:title>Grčka medicina</dc:title>
</cp:coreProperties>
</file>